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F03-8B5A-4214-B798-EB94EE58E7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1CA1-D2A6-49B6-A85D-8320B3DB1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375D-6067-4B60-BAC0-F81B3A747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C438-70ED-41A5-B447-0C7C4AA0B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705-D0F5-48F9-B5EA-45274FFE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19C-EBC2-4DDE-A137-621E5D06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C3F-705F-4841-A279-8DBC05D4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95C-9525-4004-B913-90A85904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5D26-CDE3-43F6-8D1A-F3BBAABD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C3BB-7CFF-49C1-BA66-27FED3D4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7EE1-9AF0-4470-A66A-92C8F267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8F76-1E64-489B-B403-8EF666B6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7C56-7FC0-4298-BABA-AEDAE8CC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0AAE-1921-47A2-8BED-C13A0FEC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FC37-4C72-436D-970E-25880489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B3C-CE3C-4490-BC14-1739F4F5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525A-9A1A-453B-87B3-D30165AB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7441-8EC3-478C-942D-846C4982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EC20-DBD6-47AA-A95C-CC8B370A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771F-E9D6-4168-B5D4-F437AF79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8A65-38C0-4E58-ABDB-5C0B5DEC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E448-75E4-45D6-8AA1-C195308B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4E8E0-1289-4120-88D2-2192D16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FDBD-24B7-4BF6-9DBA-1F42C922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A460-48B3-4618-996D-A36FFD35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5041-6A39-4480-9E38-B4F0CD3F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40E-E557-4498-B918-807D7109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2484-2D3F-4818-8E86-980031BE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73AB7-5C51-4A2A-9AA5-222399C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41E1D-73BE-45CB-8A12-7CC6D98A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562D-1845-4FCE-AFD2-0C67FF3E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ECEA-E202-4693-AF21-CF8CCA62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8C4F-A7A6-4884-B820-BF304120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5CFD-5BB4-41DE-842B-9867E996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E8F31-E7EC-4278-8E19-DCB1D1FD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E5F48-8625-4B18-8C8D-EC3DD304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73D94-ACF0-4C2C-86FA-EBDDD39C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795-CA2D-499E-A921-2F3396C7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E659-FAEF-4919-952C-33D950B8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70E4-BD32-48DF-8CBD-3A0C302C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9309-EB69-49E3-992D-55593A9E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88992-41C2-453E-85A7-7B8AFB64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E1E53-994F-44CD-A9F0-7305E3FC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DB943-EA17-445E-87FB-1AEA0B38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B72B5-9B3D-4C28-AACF-5C966F2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38F44-0BF4-4AC4-AF3A-CE30A3B7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6723E-A7C4-437A-BAD1-834B212E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DD9DE-E147-49FE-8C2F-6BB9EB5C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C15-321E-413C-BAA8-B0C81421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A9C2E-177A-403F-9309-B849AD85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623BB-4138-44D5-A914-CA1D375B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0EACF-884C-4547-9B1A-956A479F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FEA34-7755-4A62-9C02-5ECCC435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1144A-9723-42FD-9190-65155825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0C783-1B6C-46CE-A7C3-E7D442E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D4468-5D3E-43EE-924F-6AF847D2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BB0C6-4C4C-489F-A690-D893DA40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EC0A-8B6D-4E6D-8DE9-C4D74C86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42666-958B-4301-BF08-C1EB5270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970-DCD1-4CBE-9FB9-F477FD75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F39F8-365D-418C-92CC-5C4E0012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AA2-F882-467E-9842-3C16FC6B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7A8-ED77-4E63-BFEA-0E1DFAAC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5DD-B023-4E35-8FE7-ABA9C81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4438-30EE-4B9D-BCB1-2FA2488536B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A7FB-0A65-4519-8403-46BD5A4DFC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D80E-DBAB-4268-BA2D-ECFAE0175B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AEF2-0CC9-4F08-9296-712115FD3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0D0C-6651-4D4B-9491-EB0096511AC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100D-B061-49AB-88F4-B93E19F2CA3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F297-48E8-4BED-BC6A-52CB8FAF623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512B-B28D-4E60-87DD-D3622836463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F81F-BDBE-4477-A4BB-F779FF67BD7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E3D9-CEAD-480C-8E13-FE6785AEE8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2"/>
          <a:stretch/>
        </p:blipFill>
        <p:spPr>
          <a:xfrm>
            <a:off x="682560" y="781200"/>
            <a:ext cx="7802640" cy="17859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esented by Gillian Smi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4240" y="404640"/>
            <a:ext cx="79725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Bar graph showing response rate for ‘Position’ question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64" name="Content Placeholder 4" descr=""/>
          <p:cNvPicPr/>
          <p:nvPr/>
        </p:nvPicPr>
        <p:blipFill>
          <a:blip r:embed="rId2"/>
          <a:stretch/>
        </p:blipFill>
        <p:spPr>
          <a:xfrm>
            <a:off x="390600" y="1695600"/>
            <a:ext cx="8240760" cy="42606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5"/>
          <p:cNvSpPr/>
          <p:nvPr/>
        </p:nvSpPr>
        <p:spPr>
          <a:xfrm>
            <a:off x="395280" y="5950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Position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: A Cabinet Minister promises an appointed position in exchange for campaign contributions to her Pa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4240" y="620640"/>
            <a:ext cx="79725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Bar graph showing responses to ‘Wine’ question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67" name="Content Placeholder 3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39574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4"/>
          <p:cNvSpPr/>
          <p:nvPr/>
        </p:nvSpPr>
        <p:spPr>
          <a:xfrm>
            <a:off x="684360" y="59500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Wine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: A TD accepts a case of wine from a constituent as a Christmas gi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9725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4617b"/>
                </a:solidFill>
                <a:latin typeface="Arial"/>
              </a:rPr>
              <a:t>Service and Conflict scores for Mancuso, Allen and Smith studies</a:t>
            </a:r>
            <a:endParaRPr b="0" lang="en-US" sz="26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00040" y="2214720"/>
          <a:ext cx="8258040" cy="2400120"/>
        </p:xfrm>
        <a:graphic>
          <a:graphicData uri="http://schemas.openxmlformats.org/drawingml/2006/table">
            <a:tbl>
              <a:tblPr/>
              <a:tblGrid>
                <a:gridCol w="1650960"/>
                <a:gridCol w="1652760"/>
                <a:gridCol w="1650960"/>
                <a:gridCol w="1652400"/>
                <a:gridCol w="1650960"/>
              </a:tblGrid>
              <a:tr h="90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onflict 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td 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ervice 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td 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ncuso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len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71" name="TextBox 4"/>
          <p:cNvSpPr/>
          <p:nvPr/>
        </p:nvSpPr>
        <p:spPr>
          <a:xfrm>
            <a:off x="571680" y="4857840"/>
            <a:ext cx="63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nstantia"/>
              </a:rPr>
              <a:t>Source: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*Mancuso (1995); ** Allen (2006); Smith (20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9725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617b"/>
                </a:solidFill>
                <a:latin typeface="Arial"/>
                <a:ea typeface="Calibri"/>
              </a:rPr>
              <a:t>Ethical Locations of the Sample of Oireachtas Members</a:t>
            </a:r>
            <a:endParaRPr b="0" lang="en-US" sz="28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73" name="Content Placeholder 3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617b"/>
                </a:solidFill>
                <a:latin typeface="Arial"/>
              </a:rPr>
              <a:t>Breakdown of respondents relative to mean scores</a:t>
            </a:r>
            <a:endParaRPr b="0" lang="en-US" sz="28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643120" y="2571840"/>
          <a:ext cx="3714840" cy="3000240"/>
        </p:xfrm>
        <a:graphic>
          <a:graphicData uri="http://schemas.openxmlformats.org/drawingml/2006/table">
            <a:tbl>
              <a:tblPr/>
              <a:tblGrid>
                <a:gridCol w="1782720"/>
                <a:gridCol w="1932120"/>
              </a:tblGrid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v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%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%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%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prene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%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%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%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it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%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%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%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dd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% 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% 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%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4"/>
          <p:cNvSpPr/>
          <p:nvPr/>
        </p:nvSpPr>
        <p:spPr>
          <a:xfrm>
            <a:off x="500040" y="4071960"/>
            <a:ext cx="12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3857760" y="164304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2286000" y="21430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w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4929120" y="2143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igh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1214280" y="50007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w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1214280" y="3214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igh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7"/>
          <p:cNvSpPr/>
          <p:nvPr/>
        </p:nvSpPr>
        <p:spPr>
          <a:xfrm>
            <a:off x="0" y="6000840"/>
            <a:ext cx="864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onstantia"/>
              </a:rPr>
              <a:t>Key: 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M indicates Mancuso’s (1995) data, A indicates Allen’s (2006) data and S indicates data from this study completed by Smith (200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617b"/>
                </a:solidFill>
                <a:latin typeface="Arial"/>
              </a:rPr>
              <a:t>Breakdown of respondents relative to the Mancuso mean scores</a:t>
            </a:r>
            <a:endParaRPr b="0" lang="en-US" sz="28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643120" y="2571840"/>
          <a:ext cx="3714840" cy="3000240"/>
        </p:xfrm>
        <a:graphic>
          <a:graphicData uri="http://schemas.openxmlformats.org/drawingml/2006/table">
            <a:tbl>
              <a:tblPr/>
              <a:tblGrid>
                <a:gridCol w="1782720"/>
                <a:gridCol w="1932120"/>
              </a:tblGrid>
              <a:tr h="150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v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%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%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prene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%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%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50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it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%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%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dd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% 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85" name="TextBox 4"/>
          <p:cNvSpPr/>
          <p:nvPr/>
        </p:nvSpPr>
        <p:spPr>
          <a:xfrm>
            <a:off x="500040" y="4071960"/>
            <a:ext cx="12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3857760" y="164304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2286000" y="21430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w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7"/>
          <p:cNvSpPr/>
          <p:nvPr/>
        </p:nvSpPr>
        <p:spPr>
          <a:xfrm>
            <a:off x="4929120" y="2143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igh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9"/>
          <p:cNvSpPr/>
          <p:nvPr/>
        </p:nvSpPr>
        <p:spPr>
          <a:xfrm>
            <a:off x="1214280" y="50007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w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2"/>
          <p:cNvSpPr/>
          <p:nvPr/>
        </p:nvSpPr>
        <p:spPr>
          <a:xfrm>
            <a:off x="1214280" y="3214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igh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0" y="6000840"/>
            <a:ext cx="86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onstantia"/>
              </a:rPr>
              <a:t>Key: </a:t>
            </a: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M indicates Mancuso’s (1995) data, S indicates data from this study completed by Smith (200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9725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Explanations for differences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litical Syste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PR/STV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Coal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lture/Relig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Catholicis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Personalis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9725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mited effect of legis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itoring requi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ortance of constituency service to vot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improving the responsiveness of the public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increasing constituency siz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9725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Research Question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assess the effectiveness of the ethics legislation since its introduction in 1995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compare the attitudes of Oireachtas members to corrupt acts to those of Westminster MPs before and after the Nolan Refor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9725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Previous Studies</a:t>
            </a: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A – Beard and Horn, Peters and Wel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ada – Atkinson and Mancu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K – Mancuso, No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ustralia – Rodney Sm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4617b"/>
                </a:solidFill>
                <a:latin typeface="Arial"/>
              </a:rPr>
              <a:t>The fifteen hypothetical scenarios presented to Oireachtas Members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Ticket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TD is issued a first class airline ticket as part of a parliamentary delegation.  She exchanges the ticket for an economy fare and pockets the differenc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Envelopes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Senator brings pre-stamped Oireachtas envelopes to his Party’s County Councillors for them to us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Retainer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TD on retainer to a PR company representing the Construction Industry raises the abolition of stamp duty during Order of Busines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Contract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Cabinet Minister uses his influence to obtain a large contract for a firm in his constituenc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Hospital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TD uses his/her position to get a friend or relative moved up on a hospital waiting lis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Position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Cabinet Minister promises an appointed position in exchange for campaign contributions to her Par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License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Cabinet Minister gives out State Broadcasting licences to individuals who donated large amounts to his Party prior to an elec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Secretary General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Minister brings the Secretary General of his department to a Party meeting to inform the Minister’s Party Colleagues of an upcoming complex policy debat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Parliamentary Secretary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TD hires a family member as his/her Parliamentary Secretar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Meeting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The head of a large Irish company goes to Leinster House to meet with the Minister for Finance to discuss the implications of upcoming tax legislation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Paris: The head of a large Irish company flies the Minister for Finance to Paris to attend a rugby match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Garda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Garda receives fifty euro from the owner of a lorry to pass his logbook inspec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Pass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TD requests and receives an Oireachtas pass for a lobbyist to act as a research assistant, although her services are being paid for by an outside sourc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Committee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n All Party Committee on the disabled secures the services of a full time research assistant at the expense of the Irish Wheelchair Associ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Wine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  <a:ea typeface="Arial"/>
              </a:rPr>
              <a:t>: A TD </a:t>
            </a:r>
            <a:r>
              <a:rPr b="0" lang="en-GB" sz="1400" spc="-1" strike="noStrike">
                <a:solidFill>
                  <a:srgbClr val="000000"/>
                </a:solidFill>
                <a:latin typeface="Constantia"/>
              </a:rPr>
              <a:t>accepts a case of wine from a constituent as a Christmas gif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Constantia"/>
              </a:rPr>
              <a:t>Source: Smith, (2008)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727920" indent="-727920">
              <a:lnSpc>
                <a:spcPct val="7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14240" y="188640"/>
            <a:ext cx="79725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Arial"/>
              </a:rPr>
              <a:t>Scenario Responses and Statistics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95280" y="981000"/>
          <a:ext cx="8280360" cy="5622840"/>
        </p:xfrm>
        <a:graphic>
          <a:graphicData uri="http://schemas.openxmlformats.org/drawingml/2006/table">
            <a:tbl>
              <a:tblPr/>
              <a:tblGrid>
                <a:gridCol w="1380960"/>
                <a:gridCol w="1379880"/>
                <a:gridCol w="1379520"/>
                <a:gridCol w="1380960"/>
                <a:gridCol w="1379520"/>
                <a:gridCol w="1379520"/>
              </a:tblGrid>
              <a:tr h="177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ating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rrupt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t Corrupt  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d De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ar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c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ick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etai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mmitt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velop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cretary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ospi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rliamentary Secret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7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9725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Overview of the results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men more intolerant of corru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ose serving longer than 10 years most intolerant, those serving between 5-10 years most tolerant of corruption – no ‘collegiate effect’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l members more intolerant than Senat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797256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Examining the Results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ituency servic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spital, Contract, Envelop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flict of Interest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cense, Pass, Ticket, Retainer, Paris, Parliamentary Secretary, Wine, Posi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4240" y="691920"/>
            <a:ext cx="797256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Bar graph showing responses to ‘Contract’ question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2"/>
          <a:stretch/>
        </p:blipFill>
        <p:spPr>
          <a:xfrm>
            <a:off x="317520" y="1908000"/>
            <a:ext cx="8240760" cy="39751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324000" y="6021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Contract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: A Cabinet Minister uses his influence to obtain a large contract for a firm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  in his constitu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97256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Bar graph showing responses to ‘Hospital’ question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61" name="Content Placeholder 3" descr=""/>
          <p:cNvPicPr/>
          <p:nvPr/>
        </p:nvPicPr>
        <p:blipFill>
          <a:blip r:embed="rId2"/>
          <a:stretch/>
        </p:blipFill>
        <p:spPr>
          <a:xfrm>
            <a:off x="0" y="0"/>
            <a:ext cx="8693280" cy="58831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826920" y="59500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Hospital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: A TD uses his/her position to get a friend or relative moved up on a    hospital waiting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20:41:52Z</dcterms:created>
  <dc:creator>Gillan</dc:creator>
  <dc:description/>
  <dc:language>en-US</dc:language>
  <cp:lastModifiedBy>David Dunn</cp:lastModifiedBy>
  <dcterms:modified xsi:type="dcterms:W3CDTF">2011-01-26T17:17:50Z</dcterms:modified>
  <cp:revision>86</cp:revision>
  <dc:subject/>
  <dc:title>Corruption: The View from the Oireachtas.</dc:title>
</cp:coreProperties>
</file>