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3EF-E045-496A-9734-C1376B2A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EEC-2DF7-4235-8B66-D8D545DC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145-C494-4209-AFCB-2CB0C23A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D36-66D0-4B4A-82E4-C337817C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927B-0C21-4D0D-9266-7DEF3E74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FA0F-36F5-49DC-81DA-440FCC4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8EB0-9824-402D-9E9D-DC4B08A8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8B9-26E4-46F8-AD4B-43F2E68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6E5E-018D-45C4-8465-A293FF4D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495-05D8-4435-A397-8F48008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215B-355F-4F72-A829-2DF556D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46E-B196-4094-B684-0D4C9EB9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7BA-7E13-4957-BFEB-1FB08323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FB1D-7591-4F90-8771-F558183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E47-B347-4E36-B397-582744F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FE65-6D89-4513-B8FC-E0D30D65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DAFC-9843-455D-AF44-FF05C30D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D36-D636-4957-B0DA-996A014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E15-0BCD-4459-9C37-0EEAA77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23B-9E1A-4E00-86A9-AEA443E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787-B293-4714-81F3-D7C025B9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239-8A1A-4551-898C-C1F4B4B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553-8CB0-4E1C-8FA1-D637CFB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C97-0BD5-449E-A5D0-7A6E7E7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9EA-5D17-4D7B-8776-D3D2BFD604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D420-B2FA-4F2C-8D4D-CB9D6D0F693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96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7d47d"/>
                </a:solidFill>
                <a:latin typeface="Arial"/>
              </a:rPr>
              <a:t>Communicating Corruption To Different Audiences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f1311"/>
                </a:solidFill>
                <a:latin typeface="Arial"/>
              </a:rPr>
              <a:t>How to convey your message clearly and imaginatively to raise public awareness of the need to fight corruption worldwid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Palatino"/>
              </a:rPr>
              <a:t>©  Simon C.Devilly, </a:t>
            </a:r>
            <a:r>
              <a:rPr b="1" i="1" lang="en-US" sz="1600" spc="-1" strike="noStrike">
                <a:solidFill>
                  <a:srgbClr val="2f1311"/>
                </a:solidFill>
                <a:latin typeface="Palatino"/>
              </a:rPr>
              <a:t>Communications Consultant. 2008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e-mail: devilly@eircom.ne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7d47d"/>
                </a:solidFill>
                <a:latin typeface="Arial"/>
              </a:rPr>
              <a:t>Your Message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What do you want to say?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How are you going to say it?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What do you want to achieve or change?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Greater understanding of the effects of corruption on the lives of individuals and whole communit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at corruption can be effectively fought by well devised programmes of global refor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nhanced credibility for your organisation on key issu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What do you want your audience to know and remember?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xplaining What You Do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ALUE EACH OPPORTUNITY TO INFORM YOUR AUDIENC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Think about the range of activities in which you are involved - explain how corruption affects people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Focus on the positive changes your work makes to the lives of individuals, families and communities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Show how your policy positions have helped to shape attitudes in the international community to make the fight against both poverty and corruption key priories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7d47d"/>
                </a:solidFill>
                <a:latin typeface="Arial"/>
              </a:rPr>
              <a:t>Your Audienc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Who are they - Age, gender, educational level - The general public, donors, potential donors, volunteers, potential volunteers,  the media, key influencers, educators, policy makers, politicians, governments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Matching your content to the interests and experiences of your audience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Consider their sources of information  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What media do they use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6966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7d47d"/>
                </a:solidFill>
                <a:latin typeface="Arial"/>
              </a:rPr>
              <a:t>What Public Relations Mean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560" y="312408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 </a:t>
            </a:r>
            <a:r>
              <a:rPr b="0" lang="en-GB" sz="3200" spc="-1" strike="noStrike" u="sng">
                <a:solidFill>
                  <a:srgbClr val="2f1311"/>
                </a:solidFill>
                <a:uFillTx/>
                <a:latin typeface="Arial"/>
              </a:rPr>
              <a:t>planned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2f1311"/>
                </a:solidFill>
                <a:uFillTx/>
                <a:latin typeface="Arial"/>
              </a:rPr>
              <a:t>sustained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effort to establish and maintain </a:t>
            </a:r>
            <a:r>
              <a:rPr b="0" lang="en-GB" sz="3200" spc="-1" strike="noStrike" u="sng">
                <a:solidFill>
                  <a:srgbClr val="2f1311"/>
                </a:solidFill>
                <a:uFillTx/>
                <a:latin typeface="Arial"/>
              </a:rPr>
              <a:t>goodwill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nd mutual </a:t>
            </a:r>
            <a:r>
              <a:rPr b="0" lang="en-GB" sz="3200" spc="-1" strike="noStrike" u="sng">
                <a:solidFill>
                  <a:srgbClr val="2f1311"/>
                </a:solidFill>
                <a:uFillTx/>
                <a:latin typeface="Arial"/>
              </a:rPr>
              <a:t>understanding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between an organisation and its publics.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nstitute of Public Relat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7d47d"/>
                </a:solidFill>
                <a:latin typeface="Arial"/>
              </a:rPr>
              <a:t>Critical Evaluation Proces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s this message exactly what I wanted to conve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s it well targete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s it attention-grabbing and interesting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s it understandable and believabl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s it persuasive and does it prove its ca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s it likely to gain the result I desire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7d47d"/>
                </a:solidFill>
                <a:latin typeface="Arial"/>
              </a:rPr>
              <a:t>Defining Your Messag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f you want people to understand your role and that of your organisation you must get your message across clear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our message must be interesting to the Media and to the audi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levant information and stories well to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e examples to make your message interesting, exciting and memorab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7d47d"/>
                </a:solidFill>
                <a:latin typeface="Arial"/>
              </a:rPr>
              <a:t>Understanding Your Audience</a:t>
            </a:r>
            <a:endParaRPr b="0" lang="en-US" sz="4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Knowing and trying to understand what unites and divides them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Considering what they will respond to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Using language and images that they will understand and may identify with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Anticipating their concerns / fears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Counting negative images or publicity by using evidence delivered with convic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f1311"/>
                </a:solidFill>
                <a:latin typeface="Arial"/>
              </a:rPr>
              <a:t>Always think of yourself as a reader /  listener</a:t>
            </a: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 / </a:t>
            </a:r>
            <a:r>
              <a:rPr b="1" lang="en-GB" sz="3000" spc="-1" strike="noStrike">
                <a:solidFill>
                  <a:srgbClr val="2f1311"/>
                </a:solidFill>
                <a:latin typeface="Arial"/>
              </a:rPr>
              <a:t>viewer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he Role Of Creative Think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Consider the perspective of your audience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Propose positive solutions and ac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Create and build on common groun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Present evidence tailored to their needs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Add to their picture of the worl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Convey a sense of shared belief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Encourage them to arrive at their own reasons for saying “yes”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7d47d"/>
                </a:solidFill>
                <a:latin typeface="Arial"/>
              </a:rPr>
              <a:t>Making A Strong Cas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Explain your views clearly - no ambiguit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Show how you have reached your posi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Include “vital” information and research to support your views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Argue your case with convic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Display knowledge of a range of options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f1311"/>
                </a:solidFill>
                <a:latin typeface="Arial"/>
              </a:rPr>
              <a:t>Make clear recommendations for ac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Media Profile</a:t>
            </a:r>
            <a:br>
              <a:rPr sz="4000"/>
            </a:b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What is our starting position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o people know we exis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do they think about our aims / services / policies / past recor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How much media coverage do we ge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o we have regular contact with journalist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forms of media are best suited to conveying our messag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o we need to counter any negative image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How can we improve our present profil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The Media as Ally</a:t>
            </a:r>
            <a:br>
              <a:rPr sz="3200"/>
            </a:b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Building goodwill and understand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By dealing with the Media you can 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Influence journalists views on your work and areas of interest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Enhance your own and your organisation’s reputation and profile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Persuade people of the importance of the fight against global corruption in all its forms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f1311"/>
                </a:solidFill>
                <a:latin typeface="Arial"/>
              </a:rPr>
              <a:t>Demonstrate how the damaging effects of corruption pose a major barrier to the realisation of human right around the worl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Benefits of a Planned Publicity Strateg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reating a time-framed plan will enable you to publicise all elements of your activitie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ervices, policy issues, events, fundrais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uilding constructive relationships with the media and goodwill with your audien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owing what makes your role uniqu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ighlighting your capacity to innov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staining constant publicity to maintain a strong public awareness of your mess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Planning your Media Strateg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elements of your work do you want to promot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o are your target audienc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is likely to interest them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ere do they get their information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media do they u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ow should you get your message to them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Your Publicity Think Tank</a:t>
            </a:r>
            <a:br>
              <a:rPr sz="4000"/>
            </a:b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Pooling Ideas - Sharing Task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ven a small amount of publicity work  should make a significant differ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trategic planning saves ti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mall publicity committee - Brainstorm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Building links with local media (journalist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inding exciting angles that will grab media and audience atten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7d47d"/>
                </a:solidFill>
                <a:latin typeface="Arial"/>
              </a:rPr>
              <a:t>Your Publicity Yea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Focus on a small number of even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ide what publicity tools you will us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arget your audience through different med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Plan publicity. Pre- event / Post-event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ord all media covera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earn from successes and failur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view plans at regular interva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Build links with local media - for the futur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What is Corrup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ransparency International defines corruption 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misuse of entrusted power for private gain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 definition which applies to both the public and private sectors.It can take many forms including but not limited to bribery and theft of public asse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xplaining Why Corruption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atters To Everyon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How will you 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Inform, interest, entertain the audience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Spread Knowledge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Create Understan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Affect Change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Make clear recommendations for ac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Show what steps each individual can take to highlight, prevent and counter corrup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Understanding Corrup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rruption takes many form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ribery, paying kickbacks, money laundering, tax havens and counterfeiting all involve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illegal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activ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re is a supply and demand side of corrup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body can be bribed unless someone else offers a brib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unting The Cost Of Corrup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Just counting the mone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Some €1 Trillion is paid in bribes around the world every year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Almost another € 1 Trillion is laundered every year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Counting the human cost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3 billion people live on less than € 2 per da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Arial"/>
              </a:rPr>
              <a:t>The costs that result from corrupt decision making are truly devastat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rruption Damages 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ll Of U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osters human rights abus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gimes become more secretiv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akens democratic institu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ss of legitimacy and of public tru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ads to competitive briber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dermines fair tra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reatens the environ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undations of human development are ero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nies basic necessities to the poorest and most vulnerable peo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Demanding Reforms To Fight Corrup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Arial"/>
              </a:rPr>
              <a:t>The most effective way to fight corruption is by promot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Integrity - in government, business and civil society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Transparency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Accountability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1311"/>
                </a:solidFill>
                <a:latin typeface="Arial"/>
              </a:rPr>
              <a:t>Democratic participation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SzPct val="1135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f1311"/>
                </a:solidFill>
                <a:latin typeface="Arial"/>
              </a:rPr>
              <a:t>Corruption thrives on secrecy, political indifference and public apathy</a:t>
            </a:r>
            <a:endParaRPr b="0" lang="en-US" sz="29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ction on Key Issu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aising public awareness of corruption and campaigning for reforms worldwi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owing why Ireland should ratify the UN Convention Against Corrup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us making it more difficult for companies to give brib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manding that Ireland supports the putting in place of mechanisms and legislation on transparency and accountability in both developing countries and their partner countries in the developed worl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0:37:32Z</dcterms:created>
  <dc:creator>Brid McGrath</dc:creator>
  <dc:description/>
  <dc:language>en-US</dc:language>
  <cp:lastModifiedBy>Your User Name</cp:lastModifiedBy>
  <cp:lastPrinted>2008-07-09T11:11:55Z</cp:lastPrinted>
  <dcterms:modified xsi:type="dcterms:W3CDTF">2012-07-27T16:45:30Z</dcterms:modified>
  <cp:revision>104</cp:revision>
  <dc:subject/>
  <dc:title>Publicity - Raising your Organisation’s Profile</dc:title>
</cp:coreProperties>
</file>