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4C5-AA5A-43FE-8B96-2006F2E1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FDC-CC7F-49A3-9393-0D1215CA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EC0-090E-41AA-838A-AD09F40A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00B-08C4-49AA-AB64-E781D3B8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22D-E93B-411E-95B3-E27F03F2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857-AF11-4A3A-857D-5AD1D52D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8345-599B-4672-8A22-DB040081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AB33-2F00-43E6-9C57-790BCEB1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E5D-7CF8-409E-B4A7-AD9E0A4D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528-2A86-41DA-8D44-94103BFF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D6C-3A63-48ED-A575-10882B49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92F-0CFE-41D3-8212-C72702D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Syntax LT"/>
              </a:rPr>
              <a:t>Click to edit the title text format</a:t>
            </a:r>
            <a:endParaRPr b="0" lang="en-US" sz="44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eeee"/>
              </a:buClr>
              <a:buFont typeface="Syntax 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Syntax LT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lvl="1" marL="743040" indent="-285840">
              <a:spcBef>
                <a:spcPts val="799"/>
              </a:spcBef>
              <a:buClr>
                <a:srgbClr val="eeeeee"/>
              </a:buClr>
              <a:buFont typeface="Syntax 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Syntax LT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lvl="2" marL="1143000" indent="-228600">
              <a:spcBef>
                <a:spcPts val="799"/>
              </a:spcBef>
              <a:buClr>
                <a:srgbClr val="eeeeee"/>
              </a:buClr>
              <a:buFont typeface="Syntax 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Syntax LT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lvl="3" marL="1600200" indent="-228600">
              <a:spcBef>
                <a:spcPts val="799"/>
              </a:spcBef>
              <a:buClr>
                <a:srgbClr val="eeeeee"/>
              </a:buClr>
              <a:buFont typeface="Syntax L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Syntax LT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lvl="4" marL="2057400" indent="-228600">
              <a:spcBef>
                <a:spcPts val="799"/>
              </a:spcBef>
              <a:buClr>
                <a:srgbClr val="eeeeee"/>
              </a:buClr>
              <a:buFont typeface="Syntax L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Syntax LT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lvl="5" marL="2057400" indent="-228600">
              <a:spcBef>
                <a:spcPts val="799"/>
              </a:spcBef>
              <a:buClr>
                <a:srgbClr val="eeeeee"/>
              </a:buClr>
              <a:buFont typeface="Syntax L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Syntax LT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lvl="6" marL="2057400" indent="-228600">
              <a:spcBef>
                <a:spcPts val="799"/>
              </a:spcBef>
              <a:buClr>
                <a:srgbClr val="eeeeee"/>
              </a:buClr>
              <a:buFont typeface="Syntax L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Syntax LT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eeeeee"/>
                </a:solidFill>
                <a:latin typeface="Syntax L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84B-AF81-4F4D-B3B3-D452D0D101F3}" type="slidenum">
              <a:rPr b="0" lang="en-IE" sz="1400" spc="-1" strike="noStrike">
                <a:solidFill>
                  <a:srgbClr val="eeeeee"/>
                </a:solidFill>
                <a:latin typeface="Syntax L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ntax 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80536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IE" sz="2400" spc="-1" strike="noStrike">
                <a:solidFill>
                  <a:srgbClr val="f2f2f2"/>
                </a:solidFill>
                <a:latin typeface="Arial Narrow"/>
              </a:rPr>
              <a:t>IT’S GOOD TO KNOW...HOW CORRUPTION IS MEASURED</a:t>
            </a:r>
            <a:br>
              <a:rPr sz="2000"/>
            </a:br>
            <a:r>
              <a:rPr b="0" lang="en-IE" sz="1400" spc="-1" strike="noStrike">
                <a:solidFill>
                  <a:srgbClr val="f2f2f2"/>
                </a:solidFill>
                <a:latin typeface="Arial Narrow"/>
              </a:rPr>
              <a:t>26 October 2010</a:t>
            </a:r>
            <a:br>
              <a:rPr sz="1400"/>
            </a:br>
            <a:endParaRPr b="0" lang="en-US" sz="1400" spc="-1" strike="noStrike">
              <a:solidFill>
                <a:srgbClr val="f2f2f2"/>
              </a:solidFill>
              <a:latin typeface="Syntax LT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312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0920" y="230040"/>
            <a:ext cx="5042160" cy="6431040"/>
          </a:xfrm>
          <a:prstGeom prst="rect">
            <a:avLst/>
          </a:prstGeom>
          <a:ln w="0">
            <a:noFill/>
          </a:ln>
        </p:spPr>
      </p:pic>
      <p:sp>
        <p:nvSpPr>
          <p:cNvPr id="58" name="Oval 4"/>
          <p:cNvSpPr/>
          <p:nvPr/>
        </p:nvSpPr>
        <p:spPr>
          <a:xfrm>
            <a:off x="2987640" y="2852640"/>
            <a:ext cx="647640" cy="1447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3120" cy="3997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835280" y="566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eeeeee"/>
                </a:solidFill>
                <a:latin typeface="Arial Narrow"/>
              </a:rPr>
              <a:t>CORRUPTION PERCEPTIONS INDEX 2010</a:t>
            </a: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f2f2f2"/>
                </a:solidFill>
                <a:uFillTx/>
                <a:latin typeface="Arial Narrow"/>
              </a:rPr>
              <a:t>WHAT DOES IT MEAN?</a:t>
            </a:r>
            <a:endParaRPr b="0" lang="en-US" sz="28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eeee"/>
                </a:solidFill>
                <a:latin typeface="Arial Narrow"/>
              </a:rPr>
              <a:t>We’re not faced with the kind of “petty” corruption people in low income countries are</a:t>
            </a: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eeee"/>
                </a:solidFill>
                <a:latin typeface="Arial Narrow"/>
              </a:rPr>
              <a:t>Teachers, doctors, traffic police and airport security not demanding bribes</a:t>
            </a: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eeee"/>
                </a:solidFill>
                <a:latin typeface="Arial Narrow"/>
              </a:rPr>
              <a:t>Rule of law largely observed. Relatively strong, stable institutions. </a:t>
            </a: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008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f2f2f2"/>
                </a:solidFill>
                <a:uFillTx/>
                <a:latin typeface="Arial Narrow"/>
              </a:rPr>
              <a:t>LEGAL CORRUPTION COMPONENT 2004</a:t>
            </a:r>
            <a:endParaRPr b="0" lang="en-US" sz="28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Netherlands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79.2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Norway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78.6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Denmark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74.7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Finland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72.6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Singapore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72.6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Iceland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69.6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New Zealand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68.7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United Arab Emirates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68.2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United Kingdom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67.4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Germany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62.4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Sweden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60.0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Jordan 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59.4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Hong Kong SAR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59.1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Switzerland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59.1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Luxembourg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57.2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Austria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57.2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Belgium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54.1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Chile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53.5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Bahrain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52.3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Australia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50.3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China 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49.4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Tunisia 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48.8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Botswana 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47.3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Ghana 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47.2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Malaysia 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47.1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South Africa 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c000"/>
                </a:solidFill>
                <a:latin typeface="Arial Narrow"/>
              </a:rPr>
              <a:t>46.5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Japan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46.2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Taiwan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44.6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Canada 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eeeeee"/>
                </a:solidFill>
                <a:latin typeface="Arial Narrow"/>
              </a:rPr>
              <a:t>42.9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  <a:p>
            <a:pPr marL="277560" indent="-27756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ffff00"/>
                </a:solidFill>
                <a:latin typeface="Arial Narrow"/>
              </a:rPr>
              <a:t>Ireland </a:t>
            </a:r>
            <a:r>
              <a:rPr b="0" lang="en-IE" sz="1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IE" sz="1000" spc="-1" strike="noStrike">
                <a:solidFill>
                  <a:srgbClr val="ffff00"/>
                </a:solidFill>
                <a:latin typeface="Arial Narrow"/>
              </a:rPr>
              <a:t>42.6</a:t>
            </a:r>
            <a:endParaRPr b="0" lang="en-US" sz="1000" spc="-1" strike="noStrike">
              <a:solidFill>
                <a:srgbClr val="eeeeee"/>
              </a:solidFill>
              <a:latin typeface="Syntax LT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611280" y="6021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eeeeee"/>
                </a:solidFill>
                <a:latin typeface="Arial Narrow"/>
              </a:rPr>
              <a:t>WORLD BANK INSTITUTE 2004</a:t>
            </a:r>
            <a:endParaRPr b="0" lang="en-US" sz="18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2f2f2"/>
                </a:solidFill>
                <a:uFillTx/>
                <a:latin typeface="Arial Narrow"/>
              </a:rPr>
              <a:t>WHAT OTHERS SAY</a:t>
            </a:r>
            <a:endParaRPr b="0" lang="en-US" sz="28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eeee"/>
                </a:solidFill>
                <a:latin typeface="Arial Narrow"/>
              </a:rPr>
              <a:t>78% of respondents believed the government’s efforts to combat corruption were ineffective (Eurobarometer). </a:t>
            </a: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eeee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eeee"/>
                </a:solidFill>
                <a:latin typeface="Arial Narrow"/>
              </a:rPr>
              <a:t>32% of respondents believed the prosecution rate for bribery offences was a sufficient deterrent.  (Eurobarometer)</a:t>
            </a: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eeee"/>
                </a:solidFill>
                <a:latin typeface="Arial Narrow"/>
              </a:rPr>
              <a:t>In 2007, trust in business amongst Irish opinion leaders was at 50%. (Edelman)</a:t>
            </a: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eeee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eeee"/>
                </a:solidFill>
                <a:latin typeface="Arial Narrow"/>
              </a:rPr>
              <a:t>Ireland is the only EU country to see a decline rather than a rise in trust in business when the figures for 2010 are compared with those for 2009.  (Edelman) </a:t>
            </a: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eeee"/>
                </a:solidFill>
                <a:latin typeface="Arial Narrow"/>
              </a:rPr>
              <a:t>     </a:t>
            </a: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eeeee"/>
                </a:solidFill>
                <a:latin typeface="Arial Narrow"/>
              </a:rPr>
              <a:t>     </a:t>
            </a:r>
            <a:endParaRPr b="0" lang="en-US" sz="20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eeee"/>
                </a:solidFill>
                <a:latin typeface="Syntax LT"/>
              </a:rPr>
              <a:t> 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marL="253800" indent="-253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eeeeee"/>
                </a:solidFill>
                <a:latin typeface="Arial Narrow"/>
              </a:rPr>
              <a:t>www.transparency.ie</a:t>
            </a:r>
            <a:endParaRPr b="0" lang="en-US" sz="32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f2f2f2"/>
                </a:solidFill>
                <a:uFillTx/>
                <a:latin typeface="Arial Narrow"/>
              </a:rPr>
              <a:t>WHAT IS TRANSPARENCY INTERNATIONAL?</a:t>
            </a:r>
            <a:endParaRPr b="0" lang="en-US" sz="28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263700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eeee"/>
                </a:solidFill>
                <a:latin typeface="Arial Narrow"/>
              </a:rPr>
              <a:t>Global network of non profit organisations</a:t>
            </a: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eeee"/>
                </a:solidFill>
                <a:latin typeface="Arial Narrow"/>
              </a:rPr>
              <a:t>Offering support</a:t>
            </a: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eeee"/>
                </a:solidFill>
                <a:latin typeface="Arial Narrow"/>
              </a:rPr>
              <a:t>Diagnosing corruption risks</a:t>
            </a: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eeeeee"/>
                </a:solidFill>
                <a:latin typeface="Arial Narrow"/>
              </a:rPr>
              <a:t>Campaigning for action and reform</a:t>
            </a: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f2f2f2"/>
                </a:solidFill>
                <a:uFillTx/>
                <a:latin typeface="Arial Narrow"/>
              </a:rPr>
              <a:t>HOW DO WE DEFINE CORRUPTION?</a:t>
            </a:r>
            <a:endParaRPr b="0" lang="en-US" sz="28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2204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The abuse of entrusted power for private gain 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f2f2f2"/>
                </a:solidFill>
                <a:uFillTx/>
                <a:latin typeface="Arial Narrow"/>
              </a:rPr>
              <a:t>WHAT IS THE CORRUPTION PERCEPTIONS INDEX?</a:t>
            </a:r>
            <a:endParaRPr b="0" lang="en-US" sz="28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227664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Poll of polls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Measuring business perceptions of public sector corruption 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Relative ranking – no absolute measure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Not measuring ‘legal corruption’ or ‘private sector corruption’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f2f2f2"/>
                </a:solidFill>
                <a:uFillTx/>
                <a:latin typeface="Arial Narrow"/>
              </a:rPr>
              <a:t>HOW WE COMPILE THE INDEX</a:t>
            </a:r>
            <a:endParaRPr b="0" lang="en-US" sz="28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206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Up to 13 different surveys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Over two years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Standardise data – create common scale from ranks and scores of countries reported by each source 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Average values 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90 % confidence range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f2f2f2"/>
                </a:solidFill>
                <a:uFillTx/>
                <a:latin typeface="Arial Narrow"/>
              </a:rPr>
              <a:t>WHY DOES IT MATTER?</a:t>
            </a:r>
            <a:endParaRPr b="0" lang="en-US" sz="2800" spc="-1" strike="noStrike">
              <a:solidFill>
                <a:srgbClr val="f2f2f2"/>
              </a:solidFill>
              <a:latin typeface="Syntax L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27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35%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eeeee"/>
                </a:solidFill>
                <a:latin typeface="Arial Narrow"/>
              </a:rPr>
              <a:t>Control Risks Group (2006)</a:t>
            </a:r>
            <a:endParaRPr b="0" lang="en-US" sz="14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45%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eeeee"/>
                </a:solidFill>
                <a:latin typeface="Arial Narrow"/>
              </a:rPr>
              <a:t>PricewaterhouseCoopers</a:t>
            </a:r>
            <a:endParaRPr b="0" lang="en-US" sz="14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eeeeee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eeeeee"/>
                </a:solidFill>
                <a:latin typeface="Arial Narrow"/>
              </a:rPr>
              <a:t>Ability to trade </a:t>
            </a: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eeeee"/>
                </a:solidFill>
                <a:latin typeface="Arial Narrow"/>
              </a:rPr>
              <a:t>Habib and Zurawicki</a:t>
            </a:r>
            <a:endParaRPr b="0" lang="en-US" sz="14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eeee"/>
              </a:solidFill>
              <a:latin typeface="Syntax LT"/>
            </a:endParaRPr>
          </a:p>
          <a:p>
            <a:pPr marL="263880" indent="-263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eeeee"/>
                </a:solidFill>
                <a:latin typeface="Arial Narrow"/>
              </a:rPr>
              <a:t>        </a:t>
            </a:r>
            <a:endParaRPr b="0" lang="en-US" sz="14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8707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4167000" cy="55530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55" name="Oval 11"/>
          <p:cNvSpPr/>
          <p:nvPr/>
        </p:nvSpPr>
        <p:spPr>
          <a:xfrm>
            <a:off x="2700360" y="2997360"/>
            <a:ext cx="107964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Syntax 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85016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6:23:54Z</dcterms:created>
  <dc:creator>John Devitt</dc:creator>
  <dc:description/>
  <dc:language>en-US</dc:language>
  <cp:lastModifiedBy>David Dunn</cp:lastModifiedBy>
  <dcterms:modified xsi:type="dcterms:W3CDTF">2011-01-26T17:17:17Z</dcterms:modified>
  <cp:revision>406</cp:revision>
  <dc:subject/>
  <dc:title>Lobbying Government in Ireland</dc:title>
</cp:coreProperties>
</file>